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F7B-B0D9-486C-9D6F-82D0CC2F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0F7-9901-400F-ACCA-FD983A4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CA9-47A0-4C1B-818B-D973860B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378-6F90-4E54-A855-F41374A7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76956-6A5F-4684-9510-566A1D69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3B3C0-95A2-4B2D-BCE9-9DB7D2C1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3FACB-9170-4CFB-8AA0-BA63A9CB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D454A-EC3D-4FC5-B1EE-332C42E8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4E14-0999-4A8C-887C-7193BDB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D2B82-2FA8-4CEF-BAC1-511099C4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238E4-532A-4866-960A-EBB46ABD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197-FBF5-4264-96B6-41DCAFD0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6B12-E59E-4DF9-B946-8A0067F9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09537-9477-403B-8327-1E8D424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EDCD3-4D21-45DE-8D97-0624BE0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249A2-C8AA-4832-85AC-5FDE307D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A0942-6862-4815-8905-E8A07F98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DC2-144E-4567-BF24-94AEC22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632-1869-4A4F-BD80-3E452A75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D4A-F1F1-4E15-9CEA-1F400C97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831-E6CD-4558-B78B-79238B4E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8B7-F09A-49B7-B640-574310EA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A08-A6FE-4985-857A-9235B2F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F89-4A6E-4277-A85C-76315862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D61E-9DCC-4503-8860-B74AF5BD10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8E2B-4A8B-48BC-9F30-F70556E3C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Тренинг</a:t>
            </a:r>
            <a:br>
              <a:rPr sz="4800"/>
            </a:b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взаимодействия</a:t>
            </a:r>
            <a:br>
              <a:rPr sz="4800"/>
            </a:b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с неуспевающим учеником</a:t>
            </a: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62728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0320" y="5105520"/>
            <a:ext cx="60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бинина Татьяна Андр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НПО ПУ № 2 г. Райчихинска Аму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cc"/>
                </a:solidFill>
                <a:latin typeface="Arial"/>
              </a:rPr>
              <a:t>13. Нелюбовь к учителю, преподающему предмет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cc"/>
                </a:solidFill>
                <a:latin typeface="Arial"/>
              </a:rPr>
              <a:t>14. Однообразие, неинтересность заданий, выполняемых для овладения предмето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cc"/>
                </a:solidFill>
                <a:latin typeface="Arial"/>
              </a:rPr>
              <a:t>15. Отсутствие снисходительности со стороны учителя, чрезмерное негативное внимание с его стороны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cc"/>
                </a:solidFill>
                <a:latin typeface="Arial"/>
              </a:rPr>
              <a:t>16. Отсутствие необходимых физических качеств (ловкости, силы, зрения, слуха и т.д. 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ffcc"/>
                </a:solidFill>
                <a:latin typeface="Arial"/>
              </a:rPr>
              <a:t>17. Плохое преподавание учителем своего предмета.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158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200" y="260280"/>
            <a:ext cx="8228880" cy="6046560"/>
            <a:chOff x="457200" y="260280"/>
            <a:chExt cx="8228880" cy="6046560"/>
          </a:xfrm>
        </p:grpSpPr>
        <p:cxnSp>
          <p:nvCxnSpPr>
            <p:cNvPr id="138" name="_s17424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566680" y="1682280"/>
              <a:ext cx="1209960" cy="3201120"/>
            </a:xfrm>
            <a:prstGeom prst="bentConnector3">
              <a:avLst>
                <a:gd name="adj1" fmla="val 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17420"/>
            <p:cNvCxnSpPr>
              <a:stCxn id="142" idx="0"/>
              <a:endCxn id="140" idx="2"/>
            </p:cNvCxnSpPr>
            <p:nvPr/>
          </p:nvCxnSpPr>
          <p:spPr>
            <a:xfrm flipV="1" rot="16200000">
              <a:off x="4499640" y="2749320"/>
              <a:ext cx="1209960" cy="1067400"/>
            </a:xfrm>
            <a:prstGeom prst="bentConnector3">
              <a:avLst>
                <a:gd name="adj1" fmla="val 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3" name="_s17419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3433320" y="2749680"/>
              <a:ext cx="1209960" cy="1067040"/>
            </a:xfrm>
            <a:prstGeom prst="bentConnector3">
              <a:avLst>
                <a:gd name="adj1" fmla="val 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17418"/>
            <p:cNvCxnSpPr>
              <a:stCxn id="146" idx="0"/>
              <a:endCxn id="140" idx="2"/>
            </p:cNvCxnSpPr>
            <p:nvPr/>
          </p:nvCxnSpPr>
          <p:spPr>
            <a:xfrm flipH="1" flipV="1" rot="5400000">
              <a:off x="2366280" y="1682640"/>
              <a:ext cx="1209960" cy="3200760"/>
            </a:xfrm>
            <a:prstGeom prst="bentConnector3">
              <a:avLst>
                <a:gd name="adj1" fmla="val 97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0" name="_s17414"/>
            <p:cNvSpPr/>
            <p:nvPr/>
          </p:nvSpPr>
          <p:spPr>
            <a:xfrm>
              <a:off x="3657240" y="260280"/>
              <a:ext cx="1828440" cy="24184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18480"/>
                <a:gd name="textAreaBottom" fmla="*/ 2329560 h 2418480"/>
              </a:gdLst>
              <a:ahLst/>
              <a:rect l="textAreaLeft" t="textAreaTop" r="textAreaRight" b="textAreaBottom"/>
              <a:pathLst>
                <a:path w="21600" h="28569">
                  <a:moveTo>
                    <a:pt x="3600" y="0"/>
                  </a:moveTo>
                  <a:arcTo wR="3600" hR="3600" stAng="16200000" swAng="-5400000"/>
                  <a:lnTo>
                    <a:pt x="0" y="24969"/>
                  </a:lnTo>
                  <a:arcTo wR="3600" hR="3600" stAng="10800000" swAng="-5400000"/>
                  <a:lnTo>
                    <a:pt x="18000" y="285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99"/>
                  </a:solidFill>
                  <a:latin typeface="Arial"/>
                </a:rPr>
                <a:t>Причины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99"/>
                  </a:solidFill>
                  <a:latin typeface="Arial"/>
                </a:rPr>
                <a:t>неуспеваемост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17415"/>
            <p:cNvSpPr/>
            <p:nvPr/>
          </p:nvSpPr>
          <p:spPr>
            <a:xfrm>
              <a:off x="457200" y="3888360"/>
              <a:ext cx="1828440" cy="24184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18480"/>
                <a:gd name="textAreaBottom" fmla="*/ 2329560 h 2418480"/>
              </a:gdLst>
              <a:ahLst/>
              <a:rect l="textAreaLeft" t="textAreaTop" r="textAreaRight" b="textAreaBottom"/>
              <a:pathLst>
                <a:path w="21600" h="28569">
                  <a:moveTo>
                    <a:pt x="3600" y="0"/>
                  </a:moveTo>
                  <a:arcTo wR="3600" hR="3600" stAng="16200000" swAng="-5400000"/>
                  <a:lnTo>
                    <a:pt x="0" y="24969"/>
                  </a:lnTo>
                  <a:arcTo wR="3600" hR="3600" stAng="10800000" swAng="-5400000"/>
                  <a:lnTo>
                    <a:pt x="18000" y="285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600cc"/>
                  </a:solidFill>
                  <a:latin typeface="Arial"/>
                </a:rPr>
                <a:t>Физиологическ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7416"/>
            <p:cNvSpPr/>
            <p:nvPr/>
          </p:nvSpPr>
          <p:spPr>
            <a:xfrm>
              <a:off x="2590560" y="3888360"/>
              <a:ext cx="1828440" cy="24184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18480"/>
                <a:gd name="textAreaBottom" fmla="*/ 2329560 h 2418480"/>
              </a:gdLst>
              <a:ahLst/>
              <a:rect l="textAreaLeft" t="textAreaTop" r="textAreaRight" b="textAreaBottom"/>
              <a:pathLst>
                <a:path w="21600" h="28569">
                  <a:moveTo>
                    <a:pt x="3600" y="0"/>
                  </a:moveTo>
                  <a:arcTo wR="3600" hR="3600" stAng="16200000" swAng="-5400000"/>
                  <a:lnTo>
                    <a:pt x="0" y="24969"/>
                  </a:lnTo>
                  <a:arcTo wR="3600" hR="3600" stAng="10800000" swAng="-5400000"/>
                  <a:lnTo>
                    <a:pt x="18000" y="285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600cc"/>
                  </a:solidFill>
                  <a:latin typeface="Arial"/>
                </a:rPr>
                <a:t>Психологическ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7417"/>
            <p:cNvSpPr/>
            <p:nvPr/>
          </p:nvSpPr>
          <p:spPr>
            <a:xfrm>
              <a:off x="4724280" y="3888360"/>
              <a:ext cx="1828440" cy="24184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18480"/>
                <a:gd name="textAreaBottom" fmla="*/ 2329560 h 2418480"/>
              </a:gdLst>
              <a:ahLst/>
              <a:rect l="textAreaLeft" t="textAreaTop" r="textAreaRight" b="textAreaBottom"/>
              <a:pathLst>
                <a:path w="21600" h="28569">
                  <a:moveTo>
                    <a:pt x="3600" y="0"/>
                  </a:moveTo>
                  <a:arcTo wR="3600" hR="3600" stAng="16200000" swAng="-5400000"/>
                  <a:lnTo>
                    <a:pt x="0" y="24969"/>
                  </a:lnTo>
                  <a:arcTo wR="3600" hR="3600" stAng="10800000" swAng="-5400000"/>
                  <a:lnTo>
                    <a:pt x="18000" y="285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600cc"/>
                  </a:solidFill>
                  <a:latin typeface="Arial"/>
                </a:rPr>
                <a:t>Социально –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600cc"/>
                  </a:solidFill>
                  <a:latin typeface="Arial"/>
                </a:rPr>
                <a:t>бытовы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7423"/>
            <p:cNvSpPr/>
            <p:nvPr/>
          </p:nvSpPr>
          <p:spPr>
            <a:xfrm>
              <a:off x="6857640" y="3888360"/>
              <a:ext cx="1828440" cy="24184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18480"/>
                <a:gd name="textAreaBottom" fmla="*/ 2329560 h 2418480"/>
              </a:gdLst>
              <a:ahLst/>
              <a:rect l="textAreaLeft" t="textAreaTop" r="textAreaRight" b="textAreaBottom"/>
              <a:pathLst>
                <a:path w="21600" h="28569">
                  <a:moveTo>
                    <a:pt x="3600" y="0"/>
                  </a:moveTo>
                  <a:arcTo wR="3600" hR="3600" stAng="16200000" swAng="-5400000"/>
                  <a:lnTo>
                    <a:pt x="0" y="24969"/>
                  </a:lnTo>
                  <a:arcTo wR="3600" hR="3600" stAng="10800000" swAng="-5400000"/>
                  <a:lnTo>
                    <a:pt x="18000" y="285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600cc"/>
                  </a:solidFill>
                  <a:latin typeface="Arial"/>
                </a:rPr>
                <a:t>Педагогическ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Психологические причины неуспеваемости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ровень развития и качество познавательных процессов (особенности развития внимания, памяти, медленность понимания, недостаточный уровень развития речи, узость кругозор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тсутствие мотивации  к учеб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трах получить неудовлетворительную оценку, а вместе с ней неодобрение коллектива, значимых для учащегося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Физиологические причины неуспеваем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ворукость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тенический синдром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дром психического инфантилизма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органический синдром (ММД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ндром дефицита внимания с гиперактивностью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ипоактивност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                                          А такж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щая слабость здоровья, болезни верхних дыхательных путей, инфекционные болезни, нарушения двигательных функций  ЦН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Социально – бытовые и педагогические  причины неуспеваем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благополучные условия жи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достойное поведение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сутствие домашнего режима, безнадзорность ребёнка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достатки преподавания отдельных предметов, пробелы в знаниях, неправильный перевод в следующий класс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Учитель – ученик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стили взаимодействия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35240" y="2997360"/>
            <a:ext cx="5649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Формула успешного обучения:</a:t>
            </a:r>
            <a:br>
              <a:rPr sz="3200"/>
            </a:br>
            <a:br>
              <a:rPr sz="2400"/>
            </a:b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М + 4 П + С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М –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мотивация;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1П –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поиск информации;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П –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приём информации;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П –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понимание информации;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4П –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применение информации;</a:t>
            </a:r>
            <a:br>
              <a:rPr sz="2400"/>
            </a:b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С  -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систематичность знаний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Психотерапия неуспеваемости.</a:t>
            </a:r>
            <a:br>
              <a:rPr sz="36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1. «Не бей лежачего»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Оценку своих знаний учащийся уже получил и ждёт спокойной помощи, а не новых попрёков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2. Не более одного недостатка в минуту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Чтобы избавить человека от недостатков, знайте меру. Иначе человек станет нечувствительным к вашим оценкам. По возможности выберите из множества недостатков тот, который особенно непереносим, который хотите ликвидировать в первую очередь и помогайте ликвидировать его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3. «За двумя зайцами погонишься…»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Начните с ликвидации тех учебных трудностей, которые в первую очередь значимы для самого учащегося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4. Хвалить исполнителя, критиковать – исполнение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Оценка должна иметь точный адрес. Критика должна быть возможно более безличной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5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равнивай  сегодняшние успехи учащегося с его собственными вчерашними неудачами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Даже самый малый успех – это победа над собой и она должна быть замечена и оценена по заслугам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6. Не скупитесь на похвалу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Выделите из потока неудач крошечный островок, соломинку успеха и возникнет плацдарм, с которого можно вести наступление на незнание и неумение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7. Техника оценочной безопасности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Оценивать деятельность дробно, дифференцированно. Возникает деловая мотивация учения: «Ещё не знаю, но могу и хочу знать»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8.Ставьте перед учащимися предельно конкретные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и реальные цели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Не искушайте его невыполнимыми целями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9. Учащийся – не объект, а соучастник оценки.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Умение оценивать себя самостоятельно – главное средство преодоления учебных трудностей. Приучение к самооценке начните с её дифференциации. Отдельной отметки заслуживает красота, скорость выполнения  работ, ошибки за невнимание и ошибки «на правила», своевременное выполнение задания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авило 10. Оценка должна выражаться в каких – либо зримых знаках :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графики, таблицы, которые помогут сравнить вчерашние и сегодняшние достижения учащегося.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«Увидеть и понять проблему – наполовину решить её, но если не видишь проблему, то она в тебе самом!»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                         Древняя мудрость.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8814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Существует множество различных типов интеллекта, и каждый из нас обладает своим стилем обучения, столь же индивидуальным, как отпечатки пальцев.</a:t>
            </a:r>
            <a:br>
              <a:rPr sz="2000"/>
            </a:b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Эффективные системы образования должны распознавать стили обучения учащихся и обращаться непосредственно к каждому из них.</a:t>
            </a:r>
            <a:br>
              <a:rPr sz="2000"/>
            </a:b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А если образовательные учреждения объединяться в этом деле, они смогут изменить весь мир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Удачной Вам профессиональной деятельности, любознательных и благодарных учащихся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Цель: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освоить приёмы и техники взаимодействия  с «трудными» учащимися;</a:t>
            </a:r>
            <a:br>
              <a:rPr sz="3200"/>
            </a:b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выработать согласованный взгляд и стратегические действия коллектива по сопровождению учащихся, испытывающих трудности в обучении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Обучение –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это практическое освоение окружающего мира и жизни, наработка способностей, необходимых для того, чтобы с этой жизнью управляться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Жизнь любого существа успешна настолько, насколько умело осуществляется им управление средой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Наша среда – это наше тело, семья, люди, отношения и общение с ними, природа, денежные потоки, машины, инструменты и многое другое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Управлять жизнью – базовый стимул любого обучения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Неуспеваемость –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отставание в учении, при котором учащийся </a:t>
            </a:r>
            <a:br>
              <a:rPr sz="2800"/>
            </a:b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не овладевает на удовлетворительном уровне за отведённое время знаниями, предусмотренными учебной программой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а также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весь комплекс проблем, которые могут возникнуть у ребёнка в связи с системой обучения в образовательном учреждении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Причины </a:t>
            </a:r>
            <a:br>
              <a:rPr sz="5400"/>
            </a:b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неуспеваемости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35240" y="3141720"/>
            <a:ext cx="4672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В чём видят причины учебных затруднений педагоги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«Рейтинг»,</a:t>
            </a:r>
            <a:br>
              <a:rPr sz="4400"/>
            </a:b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составленный учителям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1.Отсутствие волевых качеств, необходимых для успешного овладения предметом (лень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2. Необходимость большой самостоятельной работы для овладения предметом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3. Неумение самостоятельно думать, рассуждать, приводить сложные логические доказательства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4. Отсутствие склонностей и способностей к предмету, недостаток интереса  к нему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5. Большие пробелы в знаниях по предмету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6.Сомнения в пользе предмета для дальнейшей жизн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7. Невозможность сохранять работоспособность в течение целого урока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8. Большая загруженность вне учебного заведения, усталость от не связанных с обучением занятий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9. Плохо написанные учебники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10.Слишком быстрый темп подачи материала, недостаток времени на обдумывание заданий, большое число контрольных и проверочных работ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11. Невозможность отличиться среди сверстников в лучшую сторону, застенчивость, не позволяющая проявить свои знания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12. Плохая дисциплина во время урока, неумение педагога организовать порядок на уроке.</a:t>
            </a:r>
            <a:br>
              <a:rPr sz="1800"/>
            </a:b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7:44:13Z</dcterms:created>
  <dc:creator>User</dc:creator>
  <dc:description/>
  <dc:language>en-US</dc:language>
  <cp:lastModifiedBy>MAMA</cp:lastModifiedBy>
  <dcterms:modified xsi:type="dcterms:W3CDTF">2009-07-25T12:18:14Z</dcterms:modified>
  <cp:revision>23</cp:revision>
  <dc:subject/>
  <dc:title>Тренинг взаимодействия с неуспевающим учеником.</dc:title>
</cp:coreProperties>
</file>